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A102-DFA4-43C6-8010-FC19F6D6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DF62-3CF2-4068-960D-DA111CED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EB11-FC67-46EE-BDAF-0566DB47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7F4E-6017-4C25-B11C-DAEF7028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8542-D283-4BDE-94B3-9B1F6FD4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987F-4481-4F5A-916E-814970F2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8B0F-EA26-4573-B520-6EB97ABC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24C6-9410-4640-B9D5-9E9473C8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7FFC-2CFE-4C82-AB27-3CFA4CDA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05B3-AE2B-406F-AB52-3705DD97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6BB6-91FB-42E1-B4FF-823B0287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7CA5-B687-4AC8-BF3C-3D12E6E3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B1E4-ABE2-404C-B3E8-7106CF1D9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33520"/>
            <a:ext cx="9144000" cy="6324480"/>
          </a:xfrm>
          <a:prstGeom prst="rect">
            <a:avLst/>
          </a:prstGeom>
          <a:solidFill>
            <a:srgbClr val="a4b8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33520"/>
            <a:ext cx="4653000" cy="6172200"/>
          </a:xfrm>
          <a:prstGeom prst="rect">
            <a:avLst/>
          </a:prstGeom>
          <a:solidFill>
            <a:srgbClr val="e3e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2846160" cy="4952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838080"/>
            <a:ext cx="22096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rth System Mode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Dust, Smoke Sulfate; Assimilated NASA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C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Aerosol Species, Fi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A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-Res Regional C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meS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agnostic Plume Sim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34320" y="914400"/>
            <a:ext cx="206208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ue &amp; Bene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Soci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sy EE De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-Quality Jus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Reports &amp; E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Savings States, 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Data Use in A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e of Services &amp;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3520"/>
            <a:ext cx="9144000" cy="4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27200" y="1447920"/>
            <a:ext cx="1905120" cy="2273040"/>
          </a:xfrm>
          <a:prstGeom prst="rect">
            <a:avLst/>
          </a:prstGeom>
          <a:noFill/>
          <a:ln cap="rnd" w="93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27200" y="3746520"/>
            <a:ext cx="1905120" cy="2219400"/>
          </a:xfrm>
          <a:prstGeom prst="rect">
            <a:avLst/>
          </a:prstGeom>
          <a:noFill/>
          <a:ln cap="rnd" w="93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79600" y="914400"/>
            <a:ext cx="2268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dictions/Foreca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46200" y="6153120"/>
            <a:ext cx="22687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ations, Parameters &amp;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1560" y="3614760"/>
            <a:ext cx="325440" cy="473040"/>
          </a:xfrm>
          <a:prstGeom prst="upArrow">
            <a:avLst>
              <a:gd name="adj1" fmla="val 50000"/>
              <a:gd name="adj2" fmla="val 3633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886200"/>
            <a:ext cx="220968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rth Observations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S A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MI AerIndex, N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IP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erosol Chem. Co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face Vi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port Wi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6657120" y="4010760"/>
            <a:ext cx="325440" cy="380880"/>
          </a:xfrm>
          <a:prstGeom prst="upArrow">
            <a:avLst>
              <a:gd name="adj1" fmla="val 50000"/>
              <a:gd name="adj2" fmla="val 292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152280" y="0"/>
            <a:ext cx="91440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33200"/>
            <a:ext cx="914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r Quality: Exceptional Event DSS  (Hus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1447920"/>
            <a:ext cx="167616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nental Trans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undary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oke, Dust 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GC WMS W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e Oriented 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Integ. &amp;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OSS Compat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erosol, Gas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ural + Manm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eptional Impac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6657120" y="3172680"/>
            <a:ext cx="325440" cy="380880"/>
          </a:xfrm>
          <a:prstGeom prst="upArrow">
            <a:avLst>
              <a:gd name="adj1" fmla="val 50000"/>
              <a:gd name="adj2" fmla="val 292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62440" y="914400"/>
            <a:ext cx="194328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ision Support Systems, Assessments, Management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eptional Event D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Event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Source At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 Temporal Anom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. ‘But For’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ch Samples to Fla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s the Evid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EE Flag Vali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533520"/>
            <a:ext cx="9144000" cy="6324480"/>
          </a:xfrm>
          <a:prstGeom prst="rect">
            <a:avLst/>
          </a:prstGeom>
          <a:solidFill>
            <a:srgbClr val="a4b8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33520"/>
            <a:ext cx="4653000" cy="6172200"/>
          </a:xfrm>
          <a:prstGeom prst="rect">
            <a:avLst/>
          </a:prstGeom>
          <a:solidFill>
            <a:srgbClr val="e3e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2846160" cy="4952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600" y="838080"/>
            <a:ext cx="22096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rth System Mode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 name, type, predictive capabilities, assimilations, other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34320" y="914400"/>
            <a:ext cx="206208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ue &amp; Bene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Soci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ments in the decision-making, decisions, and 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actual, expected, estima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itative and qualitative benefits from the improved deci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actual, expected, estima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33520"/>
            <a:ext cx="9144000" cy="4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27200" y="1447920"/>
            <a:ext cx="1905120" cy="2273040"/>
          </a:xfrm>
          <a:prstGeom prst="rect">
            <a:avLst/>
          </a:prstGeom>
          <a:noFill/>
          <a:ln cap="rnd" w="93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7200" y="3746520"/>
            <a:ext cx="1905120" cy="2219400"/>
          </a:xfrm>
          <a:prstGeom prst="rect">
            <a:avLst/>
          </a:prstGeom>
          <a:noFill/>
          <a:ln cap="rnd" w="93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79600" y="914400"/>
            <a:ext cx="2268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dictions/Foreca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46200" y="6153120"/>
            <a:ext cx="22687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ations, Parameters &amp;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41560" y="3614760"/>
            <a:ext cx="325440" cy="473040"/>
          </a:xfrm>
          <a:prstGeom prst="upArrow">
            <a:avLst>
              <a:gd name="adj1" fmla="val 50000"/>
              <a:gd name="adj2" fmla="val 3633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886200"/>
            <a:ext cx="220968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rth Observations</a:t>
            </a:r>
            <a:br>
              <a:rPr sz="15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e.g., satellite, in situ)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ssion, sensor, data products, parameters, other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6657120" y="4010760"/>
            <a:ext cx="325440" cy="380880"/>
          </a:xfrm>
          <a:prstGeom prst="upArrow">
            <a:avLst>
              <a:gd name="adj1" fmla="val 50000"/>
              <a:gd name="adj2" fmla="val 292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33200"/>
            <a:ext cx="914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SES-2007        National Application:  Project Name (PI LastN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90920" y="1447920"/>
            <a:ext cx="167616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fic products or types of predictions from the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fic interoperability, data fusion, and other information technology to support integ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fic observations products or parameters feeding the D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6657120" y="3172680"/>
            <a:ext cx="325440" cy="380880"/>
          </a:xfrm>
          <a:prstGeom prst="upArrow">
            <a:avLst>
              <a:gd name="adj1" fmla="val 50000"/>
              <a:gd name="adj2" fmla="val 292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62440" y="914400"/>
            <a:ext cx="194328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ision Support Systems, Assessments, Management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me of decision support  system or decision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pecific analyses to support the decision ma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pecific Decisions / 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1916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21:57:27Z</dcterms:created>
  <dc:creator>wturner</dc:creator>
  <dc:description/>
  <dc:language>en-US</dc:language>
  <cp:lastModifiedBy>Administrator</cp:lastModifiedBy>
  <dcterms:modified xsi:type="dcterms:W3CDTF">2008-08-12T16:56:08Z</dcterms:modified>
  <cp:revision>32</cp:revision>
  <dc:subject/>
  <dc:title>Slide 1</dc:title>
</cp:coreProperties>
</file>